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A9317-8265-4C88-B1AC-974170EE0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9E2D2-563D-4BA6-81EC-5B52C447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E504-02E1-46D0-A5C7-3EC30F685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C5C25-D066-4DB5-97FB-EEAF2CE02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EDA1-DCE2-4676-8B32-D1ABEE13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FBED1-6D3D-43A5-A32A-AC37EDFC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397C-3F80-4807-9A13-A97C32DB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2F3C1-701C-43D9-B5AF-5C780808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A1EFA-1C03-4864-83F9-F29EF291D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8E9A-A3A9-4973-BE0F-F10BA5E7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954A-930F-452C-BC12-C98C0870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6B7A-5496-48A8-BCF7-D84A48C90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E280-A2ED-4946-9F7F-80FAED3FB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628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第七节 </a:t>
            </a:r>
            <a:r>
              <a:rPr b="1" lang="zh-CN" sz="3600" spc="-1" strike="noStrike">
                <a:solidFill>
                  <a:srgbClr val="000000"/>
                </a:solidFill>
                <a:latin typeface="楷体"/>
                <a:ea typeface="楷体"/>
              </a:rPr>
              <a:t>金融期货交易的风险管理</a:t>
            </a:r>
            <a:endParaRPr b="0" lang="en-US" sz="3600" spc="-1" strike="noStrike">
              <a:solidFill>
                <a:srgbClr val="000000"/>
              </a:solidFill>
              <a:latin typeface="Times New Roman"/>
            </a:endParaRPr>
          </a:p>
        </p:txBody>
      </p:sp>
      <p:sp>
        <p:nvSpPr>
          <p:cNvPr id="42" name="PlaceHolder 2"/>
          <p:cNvSpPr>
            <a:spLocks noGrp="1"/>
          </p:cNvSpPr>
          <p:nvPr>
            <p:ph/>
          </p:nvPr>
        </p:nvSpPr>
        <p:spPr>
          <a:xfrm>
            <a:off x="755640" y="1557360"/>
            <a:ext cx="7704000" cy="4919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金融期货交易面临的风险</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无论是期货套期保值、套利或投机都面临一些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这些风险主要有：</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市场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流动性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交易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三、交易风险管理</a:t>
            </a:r>
            <a:endParaRPr b="0" lang="en-US" sz="3600" spc="-1" strike="noStrike">
              <a:solidFill>
                <a:srgbClr val="000000"/>
              </a:solidFill>
              <a:latin typeface="Times New Roman"/>
            </a:endParaRPr>
          </a:p>
        </p:txBody>
      </p:sp>
      <p:sp>
        <p:nvSpPr>
          <p:cNvPr id="59" name=""/>
          <p:cNvSpPr txBox="1"/>
          <p:nvPr/>
        </p:nvSpPr>
        <p:spPr>
          <a:xfrm>
            <a:off x="323640" y="1125000"/>
            <a:ext cx="8569080" cy="4970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主要为平仓风险和交割风险。</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为管理期货交易中的平仓风险，投资者应严格进行仓位控制和管理，避免在临近交割月时选择流动性差的期货合约。</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交割风险来说，实物交割对于一般的投资者来说是不现实的，因此投资者应极力避免这种情况。对投资者来说，如果不选择实物交割，那么在临近交割期时最好不要再持有相应的期货合约。另外，投资者应该事先建立合理、完善的交易流程体系并严格执行，通过制定规章制度及检查监督制度的方式提前防范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333000"/>
            <a:ext cx="5543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一、市场风险管理</a:t>
            </a:r>
            <a:endParaRPr b="0" lang="en-US" sz="3600" spc="-1" strike="noStrike">
              <a:solidFill>
                <a:srgbClr val="000000"/>
              </a:solidFill>
              <a:latin typeface="Times New Roman"/>
            </a:endParaRPr>
          </a:p>
        </p:txBody>
      </p:sp>
      <p:sp>
        <p:nvSpPr>
          <p:cNvPr id="44" name=""/>
          <p:cNvSpPr txBox="1"/>
          <p:nvPr/>
        </p:nvSpPr>
        <p:spPr>
          <a:xfrm>
            <a:off x="323640" y="1125000"/>
            <a:ext cx="8569080" cy="5543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市场风险管理</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400" spc="-1" strike="noStrike">
                <a:solidFill>
                  <a:srgbClr val="000000"/>
                </a:solidFill>
                <a:latin typeface="楷体"/>
                <a:ea typeface="楷体"/>
              </a:rPr>
              <a:t>在套期保值策略中，期货的市场风险主要体现为基差风险。为了防止基差异常变化给套期保值造成超出预期的损失，投资者必须建立合理的风险评估、监控和管理制度。具体而言，套期保值的基差风险管理一般包括以下三个方面：</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选择适当的期货合约与套期保值比率</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选择适当的期货合约，使其期货价格与拟保值资产价格之间具有最大相关性；</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最优的套期保值比率，可以以一个市场的收益有效冲抵另一个市场的损失；</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套期保值交易必须选择适当的时间入场；</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根据不同的基差对套期保值比例进行动态调整，当基差风险较高时，应适当降低套期保值比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2. </a:t>
            </a:r>
            <a:r>
              <a:rPr b="0" lang="zh-CN" sz="3600" spc="-1" strike="noStrike">
                <a:solidFill>
                  <a:srgbClr val="000000"/>
                </a:solidFill>
                <a:latin typeface="楷体"/>
                <a:ea typeface="楷体"/>
              </a:rPr>
              <a:t>建立严格的止损计划</a:t>
            </a:r>
            <a:endParaRPr b="0" lang="en-US" sz="3600" spc="-1" strike="noStrike">
              <a:solidFill>
                <a:srgbClr val="000000"/>
              </a:solidFill>
              <a:latin typeface="Times New Roman"/>
            </a:endParaRPr>
          </a:p>
        </p:txBody>
      </p:sp>
      <p:sp>
        <p:nvSpPr>
          <p:cNvPr id="46" name=""/>
          <p:cNvSpPr txBox="1"/>
          <p:nvPr/>
        </p:nvSpPr>
        <p:spPr>
          <a:xfrm>
            <a:off x="250920" y="1052640"/>
            <a:ext cx="8642160" cy="54007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如果发现基差朝向不利的方向异常变化，超出规定的水平时，要严格按照制度规定立即平仓止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般来说，套期保值有两种止损策略：</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一种是基于历史基差模型，即通过历史模型确定基差的正常范围，一旦基差突破历史基差模型的范围，表明市场出现了异常，此时应及时止损；</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另一种是事先确定最大可接受的损失，一旦触及最大损失，应及时止损。</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建立合理的风险评估和监控制度</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清楚风险是什么以及风险有多大；</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确保所有可能的结果能够被事先预期；</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求套期保值者建立有效的基础风险评估和监控体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99640" y="549360"/>
            <a:ext cx="74120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投机策略的市场风险管理</a:t>
            </a:r>
            <a:endParaRPr b="0" lang="en-US" sz="3600" spc="-1" strike="noStrike">
              <a:solidFill>
                <a:srgbClr val="000000"/>
              </a:solidFill>
              <a:latin typeface="Times New Roman"/>
            </a:endParaRPr>
          </a:p>
        </p:txBody>
      </p:sp>
      <p:sp>
        <p:nvSpPr>
          <p:cNvPr id="48" name=""/>
          <p:cNvSpPr txBox="1"/>
          <p:nvPr/>
        </p:nvSpPr>
        <p:spPr>
          <a:xfrm>
            <a:off x="324000" y="1557000"/>
            <a:ext cx="8424720" cy="504036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投机策略，市场风险是其面临的主要风险，因此市场风险的管理也显得尤其重要。</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期货投机者基于对市场价格变动方向的预判，通过在看涨时买入、在看跌时卖出的交易进行获利，对交易者的知识、经验、心理素质和风险管理能力都有着较高的要求，因此投机者应在做好充分准备的前提下再执行投机策略。</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投机策略中，投机者对于市场的准确判断以及严格的自我管理是重中之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692280"/>
            <a:ext cx="8136000" cy="5689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合适的品种，准确预测市场价格变化并把握趋势</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应选择自己熟悉的期货产品，对所投机的期货品种价格影响因素进行深入分析，准确预测期货价格变动并把握趋势，这是降低投机风险的基本要求；</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确定适当的止损点，并严格执行平仓操作</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投机者可以根据自身的风险承受能力来确定适合自己的止损点，一旦市场价格到达止损点位时，应严格执行平仓操作，以控制市场风险；</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合理进行资产配置，严格将投资在期货产品上的资金量控制一定水平，从整体上控制期货投机的损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549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套利策略的市场风险管理</a:t>
            </a:r>
            <a:endParaRPr b="0" lang="en-US" sz="3600" spc="-1" strike="noStrike">
              <a:solidFill>
                <a:srgbClr val="000000"/>
              </a:solidFill>
              <a:latin typeface="Times New Roman"/>
            </a:endParaRPr>
          </a:p>
        </p:txBody>
      </p:sp>
      <p:sp>
        <p:nvSpPr>
          <p:cNvPr id="51" name=""/>
          <p:cNvSpPr txBox="1"/>
          <p:nvPr/>
        </p:nvSpPr>
        <p:spPr>
          <a:xfrm>
            <a:off x="685800" y="1557000"/>
            <a:ext cx="7772400" cy="45385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先，投资者应充分了解套利策略所涉及的两种期货合约，这就要求投资者要充分了解期货合约的基础商品，包括其供求因素、价格走势、波动程度以及市场交易的活跃程度等。</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其次，投资者应合理使用基本面分析，并利用数理统计技术综合进行判断，并根据自身风险偏好程度和风险承受能力确定合理的价差区间，把握套利的开仓、平仓时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最后，投资者应严格设立止损和止盈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0" y="549360"/>
            <a:ext cx="583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二、流动性风险管理</a:t>
            </a:r>
            <a:endParaRPr b="0" lang="en-US" sz="3600" spc="-1" strike="noStrike">
              <a:solidFill>
                <a:srgbClr val="000000"/>
              </a:solidFill>
              <a:latin typeface="Times New Roman"/>
            </a:endParaRPr>
          </a:p>
        </p:txBody>
      </p:sp>
      <p:sp>
        <p:nvSpPr>
          <p:cNvPr id="53" name=""/>
          <p:cNvSpPr txBox="1"/>
          <p:nvPr/>
        </p:nvSpPr>
        <p:spPr>
          <a:xfrm>
            <a:off x="685800" y="1484280"/>
            <a:ext cx="7772400" cy="4611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选择与保值期结束最近的期货合约月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根据保值所需期货合约数量合理选择不同月份的期货合约</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动态分析不同月份期货合约流动性变化，实时进行平仓操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套利策略的流动性风险管理</a:t>
            </a:r>
            <a:endParaRPr b="0" lang="en-US" sz="3600" spc="-1" strike="noStrike">
              <a:solidFill>
                <a:srgbClr val="000000"/>
              </a:solidFill>
              <a:latin typeface="Times New Roman"/>
            </a:endParaRPr>
          </a:p>
        </p:txBody>
      </p:sp>
      <p:sp>
        <p:nvSpPr>
          <p:cNvPr id="55" name=""/>
          <p:cNvSpPr txBox="1"/>
          <p:nvPr/>
        </p:nvSpPr>
        <p:spPr>
          <a:xfrm>
            <a:off x="394920" y="1052280"/>
            <a:ext cx="8280360" cy="5545080"/>
          </a:xfrm>
          <a:prstGeom prst="rect">
            <a:avLst/>
          </a:prstGeom>
          <a:noFill/>
          <a:ln w="0">
            <a:noFill/>
          </a:ln>
        </p:spPr>
        <p:txBody>
          <a:bodyPr anchor="t">
            <a:normAutofit/>
          </a:bodyPr>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实践中，往往流动性较差的期货合约存在套利机会，因此，在买卖期货合约数量上要重点考虑流动性较差合约对套利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如跨期套利，买卖合约数量主要考虑远期合约的交易量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期现套利，要考虑所选期货合约的交易量是否能满足快速反向对冲的要求；</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跨品种套利，不但在选择品种时要选择交易活跃的品种，同时买卖合约数量要重点考虑跨品种套利相对不活跃期货合约流动性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跨市场套利，由于涉及到两个市场，既是同一个期货合约流动性也不相同，因此，在确定买卖合约数量时要重点考虑流动性较差市场中合约交易量对反向对冲的满足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47628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投机策略的流动性风险管理</a:t>
            </a:r>
            <a:endParaRPr b="0" lang="en-US" sz="3600" spc="-1" strike="noStrike">
              <a:solidFill>
                <a:srgbClr val="000000"/>
              </a:solidFill>
              <a:latin typeface="Times New Roman"/>
            </a:endParaRPr>
          </a:p>
        </p:txBody>
      </p:sp>
      <p:sp>
        <p:nvSpPr>
          <p:cNvPr id="57" name=""/>
          <p:cNvSpPr txBox="1"/>
          <p:nvPr/>
        </p:nvSpPr>
        <p:spPr>
          <a:xfrm>
            <a:off x="395280" y="1557000"/>
            <a:ext cx="8424720" cy="5040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流动性好的期货品种</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控制开仓数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分仓交易</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4. </a:t>
            </a:r>
            <a:r>
              <a:rPr b="0" lang="zh-CN" sz="2800" spc="-1" strike="noStrike">
                <a:solidFill>
                  <a:srgbClr val="000000"/>
                </a:solidFill>
                <a:latin typeface="楷体"/>
                <a:ea typeface="楷体"/>
              </a:rPr>
              <a:t>分笔交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Yitan Wang</cp:lastModifiedBy>
  <dcterms:modified xsi:type="dcterms:W3CDTF">2024-04-08T01:11:58Z</dcterms:modified>
  <cp:revision>60</cp:revision>
  <dc:subject/>
  <dc:title>PowerPoint 演示文稿</dc:title>
</cp:coreProperties>
</file>